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76729-AB7B-4E7B-8B4A-899D2AB1D61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A154F-8445-4F82-BAD8-82A17330115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391A-8802-409F-979C-AEC41F111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9479-FEEA-436B-8161-063A568C1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3863-78A0-4A93-98F5-4446A21E4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436A-6AD6-407F-A8C0-6474ECBF0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FF054-891E-4522-8F10-53FDB357C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4D43E-3BE0-4277-853C-085370137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E6FB2-80B0-44C0-92E3-9D25B7FF0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DC2FF-0403-46CF-BD5C-0489A0407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10B85-121F-4CA2-B0D5-D02D71916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C860A-36D3-4C1D-8991-6E5ACCE41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1B517-F9B6-4311-A25E-9D0CF2B2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A624-6D50-4DA8-A691-85901C317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0312E-2A8E-454B-8A7F-9E63618D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B4C25-D4EF-424D-84ED-70ECDD4F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36A62-3CF6-4107-A94E-790BABB9F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35014-E92B-43C1-9214-7E50558C8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04681-0D7D-4052-9E23-FB8DFD28F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8E1C-AB63-4059-A398-76FDA947E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DC62-C922-425B-8E1D-9B2DEA0D5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2A96-AC94-499C-AE96-B9FBC5C81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390B-AE14-40BB-B317-56E5619A4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D7F0-F726-4D60-B736-63807B28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143D-15C1-4995-8216-7A02ABB6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FA05-1BE3-4BF5-8CDE-A0E05CC7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573f8b">
                    <a:alpha val="0"/>
                  </a:srgbClr>
                </a:gs>
                <a:gs pos="100000">
                  <a:srgbClr val="4734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6b5699"/>
                </a:gs>
                <a:gs pos="100000">
                  <a:srgbClr val="573f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6b5699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573f8b">
                    <a:alpha val="0"/>
                  </a:srgbClr>
                </a:gs>
                <a:gs pos="100000">
                  <a:srgbClr val="4734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6b5699"/>
                </a:gs>
                <a:gs pos="100000">
                  <a:srgbClr val="573f8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DCD97-72BC-441D-B70E-B27C36901A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573f8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573f8b">
                    <a:alpha val="0"/>
                  </a:srgbClr>
                </a:gs>
                <a:gs pos="100000">
                  <a:srgbClr val="4734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573f8b">
                    <a:alpha val="0"/>
                  </a:srgbClr>
                </a:gs>
                <a:gs pos="100000">
                  <a:srgbClr val="4734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6b5699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6b5699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EEF98-05FE-429D-8F39-CCE8F4FA56F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00240" y="214200"/>
            <a:ext cx="2934000" cy="58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9d9ff"/>
                </a:solidFill>
                <a:latin typeface="Comic Sans MS"/>
              </a:rPr>
              <a:t>Sawl myfyriwr?</a:t>
            </a:r>
            <a:endParaRPr b="1" lang="en-US" sz="28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539640" y="1104120"/>
            <a:ext cx="820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ae ysgol newydd yn agor gyda llai na 500 disgyb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Os y byddwch yn cyfrifo un traean o’r rhif hyn, mae’r ateb yn rif cyf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ae un chwarter, un pumed ac un seithfed hefyd yn rifau cyf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awl myfyriwr sydd yn yr ysgo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7" descr=""/>
          <p:cNvPicPr/>
          <p:nvPr/>
        </p:nvPicPr>
        <p:blipFill>
          <a:blip r:embed="rId1"/>
          <a:stretch/>
        </p:blipFill>
        <p:spPr>
          <a:xfrm>
            <a:off x="7572240" y="3786120"/>
            <a:ext cx="1133640" cy="2600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"/>
          <p:cNvPicPr/>
          <p:nvPr/>
        </p:nvPicPr>
        <p:blipFill>
          <a:blip r:embed="rId2"/>
          <a:stretch/>
        </p:blipFill>
        <p:spPr>
          <a:xfrm>
            <a:off x="785880" y="4786200"/>
            <a:ext cx="183816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5T18:02:17Z</dcterms:created>
  <dc:creator>Carwyn</dc:creator>
  <dc:description/>
  <dc:language>en-US</dc:language>
  <cp:lastModifiedBy>Carwyn</cp:lastModifiedBy>
  <dcterms:modified xsi:type="dcterms:W3CDTF">2009-11-29T13:47:27Z</dcterms:modified>
  <cp:revision>4</cp:revision>
  <dc:subject/>
  <dc:title>Sawl marblen?</dc:title>
</cp:coreProperties>
</file>